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CADD-3A0B-45FF-8EF1-BC2D6BBBED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BBD6-5A4D-4EC4-8EDB-19296C573B87}" type="slidenum">
              <a:rPr b="0" lang="ar-SA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eems such a lot of repetition in this slide sequence. Far too much on gut. Too little on lungs, liver,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718-FE91-4908-BBD0-73C47858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D4EC-CED1-482F-8790-D0D02749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A65C-E301-49D3-8042-2DA53AD1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585-A937-45A6-BE89-76619BF1E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6995-32D0-4531-B593-019282BF9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5798-4C0B-4D68-8930-A10FB138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FC62-46D4-476E-96CA-E0BFFAF7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993B-2B93-4E8F-ADEB-8088CEE8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F759-1637-475B-8B78-486888B7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1A65-4D62-4AE5-AE46-C0193D0F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E41C-F417-4FB6-866A-EBAE0ED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6A0-CDC9-4B72-8A3F-7075E303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D72A-9514-4B1D-88D1-9329A54C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BBD0-3095-49C8-901F-2A389830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F3866-AEAF-452A-AAD9-BD10EE28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AB30-23BC-46A1-82DE-111BF2EB5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2BFA-48ED-41DC-8EBB-DF9C94BF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53CA0-0D25-4931-9501-05BCAFDE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3EA6-BD2F-4925-96B4-6D88A86D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F4BB9-97F8-4413-9E79-0ED6AE00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4A188-DC36-4C29-A449-B165761E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5F740-5F9F-4548-84FD-7C144D4F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5D77-A0F2-41AA-BE52-AFE6F58F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A1CBF-37B3-4BC1-B402-80C40F56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B9BD-F7B4-4779-8807-69D5E9D2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E047-0C57-4717-944C-B659E7A2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8DEB-8607-4D0B-9556-8D096338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3F80E-088D-453E-AC11-8D83011D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FAB3D-9FF2-4C04-93D6-2DDFA731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5418-3B3D-493C-B52C-86276C6F9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B7E-0EE6-4DD6-AE36-3C1A5B56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4EBA-7C52-4E6E-A691-53C5EBD4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862A-716F-4E5E-814B-B794C5AE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4C1-1BE2-4423-B9FB-F89803F3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C35D-4776-4F4B-BBFC-7F061CB2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83EB-6B4B-4AB5-9D79-1C038E8C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2BF6-1717-4B1B-82D9-09BA1D461A5A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F923-7F6B-4F83-A68F-621832EF4E97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3EE1-A577-4A6B-AD5B-3B07C915CAC3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Rectangle 2" descr=""/>
          <p:cNvPicPr/>
          <p:nvPr/>
        </p:nvPicPr>
        <p:blipFill>
          <a:blip r:embed="rId1"/>
          <a:stretch/>
        </p:blipFill>
        <p:spPr>
          <a:xfrm>
            <a:off x="603360" y="2146320"/>
            <a:ext cx="772956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304920"/>
            <a:ext cx="4724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Meckl’s diverticulu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persistance  of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small part of the yolk stal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*Length : 2 inches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* Distance from caecum: 2 feet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*Incidence:  2% of peopl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4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Congenital umbilical  fistula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persistance of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all yolk stalk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 The umbilicus will discharge fec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3805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-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Constantia"/>
              </a:rPr>
              <a:t>Rotation clockwise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ransposi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Intestinal atresia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ue to failure of recanalization of the intesti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-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Intestinal stenosi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due incomplete recanalizati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8- 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Constantia"/>
              </a:rPr>
              <a:t>Duplication of the intestin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duplication of segment of the intestine due to abnormal recanalization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1981080" y="3581280"/>
            <a:ext cx="6991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1" descr=""/>
          <p:cNvPicPr/>
          <p:nvPr/>
        </p:nvPicPr>
        <p:blipFill>
          <a:blip r:embed="rId1"/>
          <a:stretch/>
        </p:blipFill>
        <p:spPr>
          <a:xfrm>
            <a:off x="133200" y="1603440"/>
            <a:ext cx="8529840" cy="27558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2"/>
          <p:cNvSpPr/>
          <p:nvPr/>
        </p:nvSpPr>
        <p:spPr>
          <a:xfrm>
            <a:off x="285840" y="44290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  <a:ea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  <a:ea typeface="Arial"/>
              </a:rPr>
              <a:t>Prof.: Dr. Shawky Tay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Mazen\Desktop\6.jpg"/>
          <p:cNvPicPr/>
          <p:nvPr/>
        </p:nvPicPr>
        <p:blipFill>
          <a:blip r:embed="rId1"/>
          <a:stretch/>
        </p:blipFill>
        <p:spPr>
          <a:xfrm>
            <a:off x="4114800" y="380880"/>
            <a:ext cx="5029200" cy="6504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4"/>
          <p:cNvSpPr/>
          <p:nvPr/>
        </p:nvSpPr>
        <p:spPr>
          <a:xfrm>
            <a:off x="152280" y="533520"/>
            <a:ext cx="3841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onstantia"/>
                <a:ea typeface="Arial"/>
              </a:rPr>
              <a:t>Development of Intest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152280" y="2057400"/>
            <a:ext cx="36576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3300"/>
                </a:solidFill>
                <a:uFillTx/>
                <a:latin typeface="Constantia"/>
                <a:ea typeface="Arial"/>
              </a:rPr>
              <a:t>Origin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Endoderm of midg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mucosa &amp; gland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Splanchnic secondary mesoderm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  <a:ea typeface="Arial"/>
              </a:rPr>
              <a:t> submucosa &amp; musculosa and seros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4564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orphogenesis of The Midgut-hindgut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91440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5892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Mitosis and growth elongates the distal foregut and midgut forming the intestinal loop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35892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The loop undergoes </a:t>
            </a:r>
            <a:r>
              <a:rPr b="0" lang="en-GB" sz="3000" spc="-1" strike="noStrike">
                <a:solidFill>
                  <a:srgbClr val="ffff00"/>
                </a:solidFill>
                <a:latin typeface="Times New Roman"/>
              </a:rPr>
              <a:t>rotatation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270</a:t>
            </a:r>
            <a:r>
              <a:rPr b="0" lang="en-GB" sz="30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ffff00"/>
                </a:solidFill>
                <a:latin typeface="Times New Roman"/>
              </a:rPr>
              <a:t>anti</a:t>
            </a:r>
            <a:r>
              <a:rPr b="0" lang="en-GB" sz="3000" spc="-1" strike="noStrike">
                <a:solidFill>
                  <a:srgbClr val="ffff00"/>
                </a:solidFill>
                <a:latin typeface="Times New Roman"/>
              </a:rPr>
              <a:t>clockwise (when viewed from the front)</a:t>
            </a: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 around the superior mesenteric artery. 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35892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358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lvl="2" marL="35892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00720" y="907560"/>
            <a:ext cx="46432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5" descr="fig"/>
          <p:cNvPicPr/>
          <p:nvPr/>
        </p:nvPicPr>
        <p:blipFill>
          <a:blip r:embed="rId1"/>
          <a:stretch/>
        </p:blipFill>
        <p:spPr>
          <a:xfrm>
            <a:off x="4411800" y="1090440"/>
            <a:ext cx="473220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335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2" name="Object 6" descr=""/>
          <p:cNvPicPr/>
          <p:nvPr/>
        </p:nvPicPr>
        <p:blipFill>
          <a:blip r:embed="rId1"/>
          <a:stretch/>
        </p:blipFill>
        <p:spPr>
          <a:xfrm>
            <a:off x="762120" y="1031760"/>
            <a:ext cx="7467480" cy="4389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3957480" y="6172200"/>
            <a:ext cx="27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igure is from Langman’s Embry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3300"/>
                </a:solidFill>
                <a:uFillTx/>
                <a:latin typeface="Calibri"/>
              </a:rPr>
              <a:t>Stages of development: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14475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Preherniation st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raight midgut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midgut loop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ranial limb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audal limb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Cranial limb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mall intestine (jejunum + upper part of ile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Caudal limb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arge intestine ( lower part of ileum + caecum + appendix + ascending colon + right 2/3 transverse colo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6" name="Picture 5" descr="C:\Documents and Settings\Mazen\Desktop\3.jpg"/>
          <p:cNvPicPr/>
          <p:nvPr/>
        </p:nvPicPr>
        <p:blipFill>
          <a:blip r:embed="rId1"/>
          <a:stretch/>
        </p:blipFill>
        <p:spPr>
          <a:xfrm>
            <a:off x="5027760" y="1384200"/>
            <a:ext cx="38113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-808920"/>
            <a:ext cx="81532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5000" spc="-1" strike="noStrike">
              <a:solidFill>
                <a:srgbClr val="dbf5f9"/>
              </a:solidFill>
              <a:latin typeface="Calibri"/>
              <a:ea typeface="Traditional Arabi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304920"/>
            <a:ext cx="4038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Herniation stag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Time:   sixth week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Caus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Small abdominal cavit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Large liver and kidne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Sit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traembryonic coelom of umbilical cor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tation 9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ticlockwise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ranial limb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ght limb &amp; caudal limb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eft limb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69" name="Picture 5" descr="C:\Documents and Settings\Mazen\Desktop\4.jpg"/>
          <p:cNvPicPr/>
          <p:nvPr/>
        </p:nvPicPr>
        <p:blipFill>
          <a:blip r:embed="rId1"/>
          <a:stretch/>
        </p:blipFill>
        <p:spPr>
          <a:xfrm>
            <a:off x="4613400" y="762120"/>
            <a:ext cx="422568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alibri"/>
              </a:rPr>
              <a:t>Postherniation stage: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28240" y="1219320"/>
            <a:ext cx="85345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Time:  tenth week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Reduction of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mall intestine first, large intestine second and caecum last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otation 180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0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nticlockwise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ght limb (small intestine)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eft  &amp; left limb (large intestine)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gh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23560" indent="-2235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Proliferation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ecanalization of the endoderm of the intestine occur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Picture 3" descr="C:\Documents and Settings\Mazen\Desktop\6.jpg"/>
          <p:cNvPicPr/>
          <p:nvPr/>
        </p:nvPicPr>
        <p:blipFill>
          <a:blip r:embed="rId1"/>
          <a:stretch/>
        </p:blipFill>
        <p:spPr>
          <a:xfrm>
            <a:off x="4114800" y="4038480"/>
            <a:ext cx="5029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alibri"/>
              </a:rPr>
              <a:t>Congenital anomalies:</a:t>
            </a: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28240" y="1066680"/>
            <a:ext cx="8534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ongenital umbilical hernia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ue to presence of defect in the anterior abdominal wall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(gastroschisis)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herniation of loop of the intesti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828800" y="3048120"/>
            <a:ext cx="52578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4724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Exomphalos (omphalocele)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due to failure of a loop of intestine to return back to the abdominal cavity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loop of intestine coming from the base of umbilicus covered by amn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0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711600" cy="6019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4724280" cy="23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20:36:30Z</dcterms:created>
  <dc:creator>Layan</dc:creator>
  <dc:description/>
  <dc:language>en-US</dc:language>
  <cp:lastModifiedBy>Safa Osman</cp:lastModifiedBy>
  <dcterms:modified xsi:type="dcterms:W3CDTF">2016-01-27T12:30:45Z</dcterms:modified>
  <cp:revision>45</cp:revision>
  <dc:subject/>
  <dc:title>Development of Intestines</dc:title>
</cp:coreProperties>
</file>